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1.png" ContentType="image/png"/>
  <Override PartName="/ppt/media/image7.jpeg" ContentType="image/jpeg"/>
  <Override PartName="/ppt/media/image19.png" ContentType="image/png"/>
  <Override PartName="/ppt/media/image3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6.wmf" ContentType="image/x-wmf"/>
  <Override PartName="/ppt/media/image4.jpeg" ContentType="image/jpeg"/>
  <Override PartName="/ppt/media/image15.wmf" ContentType="image/x-wmf"/>
  <Override PartName="/ppt/media/image1.jpeg" ContentType="image/jpeg"/>
  <Override PartName="/ppt/media/image2.jpeg" ContentType="image/jpeg"/>
  <Override PartName="/ppt/media/image5.jpeg" ContentType="image/jpeg"/>
  <Override PartName="/ppt/media/image6.jpeg" ContentType="image/jpeg"/>
  <Override PartName="/ppt/media/image13.png" ContentType="image/pn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</p:sldIdLst>
  <p:sldSz cx="9144000" cy="6858000"/>
  <p:notesSz cx="9294813" cy="7008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32B-45FB-4B70-976D-7E756455E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0E66-44AE-4D95-B0B5-8A851491AB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9B88360-5766-4D0B-A825-2C3EC1E97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FC6C4F1-CEDB-42E6-9279-198626264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41D8867-9523-4576-A159-C326154AF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1B51910-205F-4CFA-9F1A-506129123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6087BAA-09F6-4AD1-850E-DFB4CE92D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4001341-58B0-4EB5-B94C-3134A994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B09D3E-3D55-4862-B954-8C1D4873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D363268-A5E5-4AF1-B3B0-C04088FEB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951B661-0106-4861-963F-70452EA3D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65F4995-7752-4D07-A817-09B848F1B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90F9-F914-46DB-B58A-E4F95E6CC4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66E3688-4F3D-4731-BAFB-91C4B1DAD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7BB915-7F84-40BF-8CE0-575366CBB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848986-A7D1-400F-BD89-E9C0E7313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6F3BE6C-F58A-4391-9EB6-C2B5C8FF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C2D4586-6146-44FD-A620-9B8B06F5B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F09F95-08E8-4CBC-84AE-FF85766A8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8AA721E-D3AB-422A-8E4E-3B146087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B75915A-C5E9-404F-8825-024650E1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EEC4740-D476-426E-9E09-B78316B6F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3AD9DA6-ED30-4C01-9A18-B4606BC17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5BD-D2C4-43E1-9889-E9085ED5F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0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E356164-80D6-4EF3-95CC-7C7F991D5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68D6F38-03F7-465A-BC16-79CE0E609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8DBE2E0-FC4B-4B5D-9191-90F125251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3520B06-7BD2-4A62-8AAF-BD87D269D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2D68ECD-72DD-4835-A9E0-F6775BFF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439EE2-24F8-425E-8887-6D3A6D19B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67AC339-AAE5-447B-A47B-6C64A0ED5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C4B4643-0D51-4F54-9295-0AC5C8E8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49F3B90-7964-4080-B586-951CE20A9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6EA1E11-AB58-4CB8-9F65-433A9F400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2E9B26-2945-4EF8-B7D3-4CB3CCBE449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A4EBFBF-A90B-487D-A559-5F357DE35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2A4EAE5-2EDE-4961-85B2-6289FB1B2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0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1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4FFD10A-E649-48D7-B107-FFE0B6A39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245AF5E-FB8D-46EB-A6D8-EAB73F1A81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F444CC1-BE3E-44A5-A902-902D8527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014DF34-D12B-4115-8758-C2A5DD74C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6CC88E1-FC10-4C6A-8812-0851EE1B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D22C60D-8C1B-4E26-9DEF-5009FF8F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9DE4731-BAAA-4279-AB1B-20C140B9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1075BF-B068-451C-8774-2CCECC319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79E51D-9B42-4C5B-9DCF-D55CE1E58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A2C5A3F-1164-4E03-8A6F-A14D203E0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274E505-4265-470D-BD7F-13F184A0E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5967BC-AAFA-419A-999A-F4AC1DBEC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8A97EAC-B061-4EE2-9DFE-35A22E80F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C9CF93B-C36F-45E7-877F-4AEBB8ED6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909DCCF-64C9-4CFD-87CD-48FC76EA91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E59B013-B616-4AD0-A066-8260F97C9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235106B4-E273-4D03-B141-27D1CF5BB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A6A90EC-BAAB-4DBE-876A-D39C64A2B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3EF47C-F663-4D6D-B521-9954771D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48FBF1-B161-4EED-B00B-77C7A1AFAF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5801AAA-1A06-415E-87CA-76D372A3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B65FBC4-85B5-40BF-B857-C01A2CBB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C6E64CD-19D6-43A0-84FA-6B6B2AE7B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239FF9F-AEE1-4906-8A10-FCB7FC433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51EAC72-C468-4073-A7D8-5650C5125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D348AD1-AA84-4EAE-8159-BE139E90C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3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1E13438-A8EE-450C-8969-21DCB0A0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86AD52F-90E9-4102-9582-568932357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0BDC692-611E-47AA-8249-1A96BE743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C5669146-D7A8-4A7D-8699-D7D457806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22774-2F28-46B9-9C31-128513BAA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6DEB3C5-EFE0-4ABC-B0C4-0D48FADB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DFE264D-D8B3-473B-96FE-335FDA1CB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2074955-2C6C-4F20-B6CC-2688394A7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F3E8A4C9-A364-49FA-BDD3-40E120C5C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6CD62E9-8465-484C-BC27-CE99039B9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011EA18-7841-404F-9642-8B951297F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EC36F22-D999-4C78-8B1A-A6DF1C1CC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D9FDC4-59C5-4F34-AC14-606E3DEF3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7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BB5E355-A465-4E77-AADC-7EFF227E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FF9B645-8813-4A0B-93E8-FF69032B8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8957AD-2034-4141-9380-B5EA6E88B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A63257-079B-47CC-A4C2-8C52D5562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7978819-1F3D-4921-9518-02E3ADCD5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4AF54F-AC3A-4F28-86A8-4EC6ED18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B8BDC4B-7A8B-460E-A778-5ACE1520C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7DADB17-9DA5-4F57-B365-B668EB48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BBB2D2-98C6-49E9-8685-18E8629F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E4C9049-255C-4BFF-BA88-604FB820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0F20448-59CE-4374-8350-397189ED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9EDDD16-3C9F-448F-B0A1-25313054F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F2C919E-0FEA-4267-B2D6-8ABFAB714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AB0A6-A48A-40E1-9F7C-19FE6763D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9B6E05-7241-4438-BFA7-74428979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19FB7D7-F2FC-49B4-B193-DD67C699AE2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F6DC6FE-6608-47A6-9A3C-BF2D9AF7A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5F0642A4-F4DB-4450-BE4A-3E5034217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622701C-E5A9-4A70-AB5F-79AAD2BC3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E5C09BDF-85FF-48ED-BA5D-88786ECC49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3BAEAE9-B55A-4CAC-95CF-B87698925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F04BB12-165C-47CF-8E5E-C2D277C8D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167B8DF-70F4-402D-9339-F034B45B8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64780A6-3E56-41FA-9AE7-F8BEDB568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1FD813-8493-4B9A-AC04-7CE171DD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B2653FC-CAC5-42E0-8AB2-1153A5664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8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D24BD72-28A8-4761-9B9F-13BBBC719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3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4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5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4463828-77EF-4499-B32E-C6F73467A93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DB250-1197-40D4-9B63-3848C5110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DEF4D5-9ADB-437F-B980-AB918FE60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407310-B27E-44D9-9098-A31DCF383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C2E202-5A54-496A-B7D1-59179B78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DF36B8-6C65-4BC9-92C4-85530CFB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4D015E-2264-4DA3-945A-67F3AF77D5D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528FD0-DB04-4C2D-B997-891262C0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FE8A37-5FA6-4FD8-8CD1-AD78A60A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068193-78DD-4178-AB6F-FE1B88BC1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2BDBF2-511B-4A47-91A0-63619FC3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147301-657A-44F1-BF0F-0F2AE1A8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3F0C-2646-4922-8CA4-77504730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C0EB95-84FA-40BD-89A8-8CFDD7B60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E8BC931-0326-46F1-A31B-4D8E338ED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A3A294-6BC4-49B4-8510-230DE1D25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5E45D2-2DC9-4F22-B8CA-B040D7F7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68F81A-1586-4FDA-AA7C-4925043D9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0B2086-63D8-4A52-8B19-485C39613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84601D-34E1-4CD3-8949-640104747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709BA-97A6-46B9-B609-4858CD45E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9BF6-F549-46C9-9BFA-C1CDE241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8FCDC-4262-4A24-842C-42A66CD4A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2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3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7162273-2617-498A-9748-45B9A220D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0676077-A626-445F-8DE7-FB04A7E10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1B58A-33F3-405F-9837-4B74D6F3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51F5694-8C47-4B4B-928A-FC6ACCDA8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CE7567-9976-4089-8357-08B73B165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9A59E59-7E1D-4D2B-9270-BB5901E7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A694AA-814C-4766-939F-70036316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F9D1CB-6674-4A18-9674-B571080FA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862412-4685-4096-B1AE-4131C834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7974-7A01-4CC0-87E5-EAA603A54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F3A3396-6C7C-44D3-A2C4-EA8740E6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D56493-4231-4082-9E32-CED51F2E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70E5E7-EFE7-40C6-932B-0C7667B87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1CF6BB-64EF-44D5-848C-F071B33EB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F0ED2A-A615-4CD0-A0BE-ED54F1DA5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4BA43-24C2-4191-8EFA-7C50C1D1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016DCDE-CF7C-4B09-8C81-B46A4152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ED78FC-4EA3-46A0-93B2-05631C9C9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9628E36-5242-4D1C-A07A-17A27D0E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BE9EA6-CDE3-45C5-9457-533EBC285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3C829-AEFB-44AC-83FF-7BEA0D351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427044-D8DA-4490-83E5-FBF68E3E8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F2CF76-817B-4FF9-963A-C914C64BB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0B8D53-20E1-4844-B81E-903444819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E37EB81-DDF2-4EAB-AC6D-8CAE2373E0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8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79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939545D-33E3-4736-813F-2C8669B7F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40CB6B-9DBF-403F-A7C7-6D195413B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FB3ED03-FEA7-4F3E-B9BB-62897F901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B2EE5E-A0F1-42BF-A226-7024E7DD2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443743-A8E8-4510-A713-DAADB325B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07FB42-B7BA-4877-9FD1-F2A61D3FF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42BB-AC0E-487F-82C7-E05DEE8A2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ubTitle"/>
          </p:nvPr>
        </p:nvSpPr>
        <p:spPr>
          <a:xfrm>
            <a:off x="436680" y="166680"/>
            <a:ext cx="6519600" cy="309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0E259CD-DA27-442B-AB1F-86A663AAA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D47EB3-9E5E-483E-B4F1-19882AC6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1587B2-754A-4F0B-857E-69A54F9D4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A56208-8BB4-4893-9580-79353CE51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36680" y="4071960"/>
            <a:ext cx="83786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B14F0FA-4B47-4B01-9613-D4071CEF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30040" y="14367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3668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4730040" y="4071960"/>
            <a:ext cx="408852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2B02E90-2429-46BA-9C68-F8121E1E1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32698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103080" y="14367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366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1" name="PlaceHolder 6"/>
          <p:cNvSpPr>
            <a:spLocks noGrp="1"/>
          </p:cNvSpPr>
          <p:nvPr>
            <p:ph/>
          </p:nvPr>
        </p:nvSpPr>
        <p:spPr>
          <a:xfrm>
            <a:off x="32698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2" name="PlaceHolder 7"/>
          <p:cNvSpPr>
            <a:spLocks noGrp="1"/>
          </p:cNvSpPr>
          <p:nvPr>
            <p:ph/>
          </p:nvPr>
        </p:nvSpPr>
        <p:spPr>
          <a:xfrm>
            <a:off x="6103080" y="4071960"/>
            <a:ext cx="2697840" cy="240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FB1F582-C5A2-417E-949E-7B162B889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44D5B7B-A596-4ABB-A0D1-C7E7172063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subTitle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220006D-888F-402B-9CA9-003F3E0DD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A9A6037-A9E7-4DB1-9A93-740FC3770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93.xml"/><Relationship Id="rId9" Type="http://schemas.openxmlformats.org/officeDocument/2006/relationships/slideLayout" Target="../slideLayouts/slideLayout194.xml"/><Relationship Id="rId10" Type="http://schemas.openxmlformats.org/officeDocument/2006/relationships/slideLayout" Target="../slideLayouts/slideLayout195.xml"/><Relationship Id="rId11" Type="http://schemas.openxmlformats.org/officeDocument/2006/relationships/slideLayout" Target="../slideLayouts/slideLayout196.xml"/><Relationship Id="rId12" Type="http://schemas.openxmlformats.org/officeDocument/2006/relationships/slideLayout" Target="../slideLayouts/slideLayout197.xml"/><Relationship Id="rId13" Type="http://schemas.openxmlformats.org/officeDocument/2006/relationships/slideLayout" Target="../slideLayouts/slideLayout198.xml"/><Relationship Id="rId14" Type="http://schemas.openxmlformats.org/officeDocument/2006/relationships/slideLayout" Target="../slideLayouts/slideLayout199.xml"/><Relationship Id="rId15" Type="http://schemas.openxmlformats.org/officeDocument/2006/relationships/slideLayout" Target="../slideLayouts/slideLayout200.xml"/><Relationship Id="rId16" Type="http://schemas.openxmlformats.org/officeDocument/2006/relationships/slideLayout" Target="../slideLayouts/slideLayout201.xml"/><Relationship Id="rId17" Type="http://schemas.openxmlformats.org/officeDocument/2006/relationships/slideLayout" Target="../slideLayouts/slideLayout202.xml"/><Relationship Id="rId18" Type="http://schemas.openxmlformats.org/officeDocument/2006/relationships/slideLayout" Target="../slideLayouts/slideLayout203.xml"/><Relationship Id="rId19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7.xml"/><Relationship Id="rId9" Type="http://schemas.openxmlformats.org/officeDocument/2006/relationships/slideLayout" Target="../slideLayouts/slideLayout38.xml"/><Relationship Id="rId10" Type="http://schemas.openxmlformats.org/officeDocument/2006/relationships/slideLayout" Target="../slideLayouts/slideLayout39.xml"/><Relationship Id="rId11" Type="http://schemas.openxmlformats.org/officeDocument/2006/relationships/slideLayout" Target="../slideLayouts/slideLayout40.xml"/><Relationship Id="rId12" Type="http://schemas.openxmlformats.org/officeDocument/2006/relationships/slideLayout" Target="../slideLayouts/slideLayout41.xml"/><Relationship Id="rId13" Type="http://schemas.openxmlformats.org/officeDocument/2006/relationships/slideLayout" Target="../slideLayouts/slideLayout42.xml"/><Relationship Id="rId14" Type="http://schemas.openxmlformats.org/officeDocument/2006/relationships/slideLayout" Target="../slideLayouts/slideLayout43.xml"/><Relationship Id="rId15" Type="http://schemas.openxmlformats.org/officeDocument/2006/relationships/slideLayout" Target="../slideLayouts/slideLayout44.xml"/><Relationship Id="rId16" Type="http://schemas.openxmlformats.org/officeDocument/2006/relationships/slideLayout" Target="../slideLayouts/slideLayout45.xml"/><Relationship Id="rId17" Type="http://schemas.openxmlformats.org/officeDocument/2006/relationships/slideLayout" Target="../slideLayouts/slideLayout46.xml"/><Relationship Id="rId18" Type="http://schemas.openxmlformats.org/officeDocument/2006/relationships/slideLayout" Target="../slideLayouts/slideLayout47.xml"/><Relationship Id="rId19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0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49.xml"/><Relationship Id="rId9" Type="http://schemas.openxmlformats.org/officeDocument/2006/relationships/slideLayout" Target="../slideLayouts/slideLayout50.xml"/><Relationship Id="rId10" Type="http://schemas.openxmlformats.org/officeDocument/2006/relationships/slideLayout" Target="../slideLayouts/slideLayout51.xml"/><Relationship Id="rId11" Type="http://schemas.openxmlformats.org/officeDocument/2006/relationships/slideLayout" Target="../slideLayouts/slideLayout52.xml"/><Relationship Id="rId12" Type="http://schemas.openxmlformats.org/officeDocument/2006/relationships/slideLayout" Target="../slideLayouts/slideLayout53.xml"/><Relationship Id="rId13" Type="http://schemas.openxmlformats.org/officeDocument/2006/relationships/slideLayout" Target="../slideLayouts/slideLayout54.xml"/><Relationship Id="rId14" Type="http://schemas.openxmlformats.org/officeDocument/2006/relationships/slideLayout" Target="../slideLayouts/slideLayout55.xml"/><Relationship Id="rId15" Type="http://schemas.openxmlformats.org/officeDocument/2006/relationships/slideLayout" Target="../slideLayouts/slideLayout56.xml"/><Relationship Id="rId16" Type="http://schemas.openxmlformats.org/officeDocument/2006/relationships/slideLayout" Target="../slideLayouts/slideLayout57.xml"/><Relationship Id="rId17" Type="http://schemas.openxmlformats.org/officeDocument/2006/relationships/slideLayout" Target="../slideLayouts/slideLayout58.xml"/><Relationship Id="rId18" Type="http://schemas.openxmlformats.org/officeDocument/2006/relationships/slideLayout" Target="../slideLayouts/slideLayout59.xml"/><Relationship Id="rId19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A3D5-EA79-4757-A958-B8D26F244A1D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325B-D1E0-40FE-881A-0FBB17AE746D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67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 type="dt" idx="21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B9A4E-C5EF-4509-9C22-6B77D441887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 type="ftr" idx="22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 type="sldNum" idx="23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6D1-5890-4422-8D96-9F795043F730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 type="dt" idx="2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D7B00-3703-4DC4-8AC7-5E40F4A9ED8A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 type="ftr" idx="25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 type="sldNum" idx="26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F873F-C516-44E7-AB2C-21A55464571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53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 type="dt" idx="27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19D2F-09E7-4919-B5BD-730E468D42DF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 type="ftr" idx="28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 type="sldNum" idx="29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DC87-898C-4142-BD04-3F7EECCDAD26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 type="dt" idx="30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1D65C-BA11-4420-A29C-EC79BE4C475B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 type="ftr" idx="31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 type="sldNum" idx="32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8E6A8-3B03-4253-A2A8-2CEED529760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8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 type="dt" idx="33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567C5-EE33-4EA7-9390-F00D971E87B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 type="ftr" idx="34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 type="sldNum" idx="3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336A4-45B9-4CFD-8E07-6D12490BA174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1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 type="dt" idx="3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59F0B-617F-41A6-8A68-5EE01B7AD04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 type="ftr" idx="3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 type="sldNum" idx="38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8E0E8-A71B-422A-8C94-C90FB360147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28D0D-528A-4455-BDDE-25C456C3113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40"/>
          </p:nvPr>
        </p:nvSpPr>
        <p:spPr>
          <a:xfrm>
            <a:off x="3851280" y="6453000"/>
            <a:ext cx="1008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0D1C8-4774-4826-8E40-C58D4DF79587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6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767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8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769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0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1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2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3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4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5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6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7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8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79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0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1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2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3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4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5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6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7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8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1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2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3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4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5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6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7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8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799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0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1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2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3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4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5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6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7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8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09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10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8"/>
    <p:sldLayoutId id="2147483858" r:id="rId9"/>
    <p:sldLayoutId id="2147483859" r:id="rId10"/>
    <p:sldLayoutId id="2147483860" r:id="rId11"/>
    <p:sldLayoutId id="2147483861" r:id="rId12"/>
    <p:sldLayoutId id="2147483862" r:id="rId13"/>
    <p:sldLayoutId id="2147483863" r:id="rId14"/>
    <p:sldLayoutId id="2147483864" r:id="rId15"/>
    <p:sldLayoutId id="2147483865" r:id="rId16"/>
    <p:sldLayoutId id="2147483866" r:id="rId17"/>
    <p:sldLayoutId id="2147483867" r:id="rId18"/>
    <p:sldLayoutId id="2147483868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32DE4-533A-4A64-AF0A-6C829C7B4253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A678A-235E-4B3E-B92F-704FBF27811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6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9E864-E7B3-485D-BC45-BDF0FD9F7965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7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8"/>
          </p:nvPr>
        </p:nvSpPr>
        <p:spPr>
          <a:xfrm>
            <a:off x="7164360" y="6453000"/>
            <a:ext cx="165096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5260-0196-47C4-9866-2ECB00D01D6C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129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131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2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3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4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5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6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7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8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39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0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1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2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3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4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5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6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7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8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49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0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1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2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3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4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5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6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7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8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59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3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4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5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6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7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8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69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0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1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172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8"/>
    <p:sldLayoutId id="2147483689" r:id="rId9"/>
    <p:sldLayoutId id="2147483690" r:id="rId10"/>
    <p:sldLayoutId id="2147483691" r:id="rId11"/>
    <p:sldLayoutId id="2147483692" r:id="rId12"/>
    <p:sldLayoutId id="2147483693" r:id="rId13"/>
    <p:sldLayoutId id="2147483694" r:id="rId14"/>
    <p:sldLayoutId id="2147483695" r:id="rId15"/>
    <p:sldLayoutId id="2147483696" r:id="rId16"/>
    <p:sldLayoutId id="2147483697" r:id="rId17"/>
    <p:sldLayoutId id="2147483698" r:id="rId18"/>
    <p:sldLayoutId id="2147483699" r:id="rId19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1" name="Group 150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212" name="Picture 148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214" name="Picture 23" descr="dd"/>
            <p:cNvPicPr/>
            <p:nvPr/>
          </p:nvPicPr>
          <p:blipFill>
            <a:blip r:embed="rId3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6" name="Oval 102"/>
            <p:cNvSpPr/>
            <p:nvPr/>
          </p:nvSpPr>
          <p:spPr>
            <a:xfrm>
              <a:off x="436680" y="1362240"/>
              <a:ext cx="2162160" cy="2172960"/>
            </a:xfrm>
            <a:prstGeom prst="ellipse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7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8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19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0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1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2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3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4" name="Oval 110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5" name="Oval 111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6" name="Oval 112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7" name="Oval 113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8" name="Oval 114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29" name="Oval 115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0" name="Oval 116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1" name="Oval 117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2" name="Oval 118"/>
            <p:cNvSpPr/>
            <p:nvPr/>
          </p:nvSpPr>
          <p:spPr>
            <a:xfrm>
              <a:off x="1004760" y="706320"/>
              <a:ext cx="1111320" cy="1113120"/>
            </a:xfrm>
            <a:prstGeom prst="ellipse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3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4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5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6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7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8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39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0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1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2" name="Oval 128"/>
            <p:cNvSpPr/>
            <p:nvPr/>
          </p:nvSpPr>
          <p:spPr>
            <a:xfrm>
              <a:off x="482760" y="3227400"/>
              <a:ext cx="1801800" cy="1814400"/>
            </a:xfrm>
            <a:prstGeom prst="ellipse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3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4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5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6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7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8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49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0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1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2" name="Oval 138"/>
            <p:cNvSpPr/>
            <p:nvPr/>
          </p:nvSpPr>
          <p:spPr>
            <a:xfrm>
              <a:off x="1012680" y="4791240"/>
              <a:ext cx="1506600" cy="1519200"/>
            </a:xfrm>
            <a:prstGeom prst="ellipse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3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4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255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8"/>
    <p:sldLayoutId id="2147483702" r:id="rId9"/>
    <p:sldLayoutId id="2147483703" r:id="rId10"/>
    <p:sldLayoutId id="2147483704" r:id="rId11"/>
    <p:sldLayoutId id="2147483705" r:id="rId12"/>
    <p:sldLayoutId id="2147483706" r:id="rId13"/>
    <p:sldLayoutId id="2147483707" r:id="rId14"/>
    <p:sldLayoutId id="2147483708" r:id="rId15"/>
    <p:sldLayoutId id="2147483709" r:id="rId16"/>
    <p:sldLayoutId id="2147483710" r:id="rId17"/>
    <p:sldLayoutId id="2147483711" r:id="rId18"/>
    <p:sldLayoutId id="2147483712" r:id="rId19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9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769A-4B38-4BEE-A778-286BCCB643C1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10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11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59003-4EDE-433B-ABD1-126489F90E7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38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 type="dt" idx="12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C8CA3-0518-46FA-85AA-65713443A20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 type="ftr" idx="13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 type="sldNum" idx="14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59E1E-AA22-4EE5-8B41-60A0729E93FF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dt" idx="15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437F7-4128-4444-80AD-2A270EAA1C44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 type="ftr" idx="16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 type="sldNum" idx="17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4EA18-8E39-4F28-B653-A71CF1F98619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43" descr="logo small"/>
          <p:cNvPicPr/>
          <p:nvPr/>
        </p:nvPicPr>
        <p:blipFill>
          <a:blip r:embed="rId2"/>
          <a:stretch/>
        </p:blipFill>
        <p:spPr>
          <a:xfrm>
            <a:off x="7662960" y="341280"/>
            <a:ext cx="1173240" cy="2952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7" descr="topsolid"/>
          <p:cNvPicPr/>
          <p:nvPr/>
        </p:nvPicPr>
        <p:blipFill>
          <a:blip r:embed="rId3"/>
          <a:stretch/>
        </p:blipFill>
        <p:spPr>
          <a:xfrm>
            <a:off x="0" y="0"/>
            <a:ext cx="7591320" cy="96984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717480" indent="-2714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2" marL="1076400" indent="-17964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3" marL="143496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4" marL="1793880" indent="-17928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5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6" marL="1793880" indent="-179280">
              <a:lnSpc>
                <a:spcPct val="90000"/>
              </a:lnSpc>
              <a:spcBef>
                <a:spcPts val="2500"/>
              </a:spcBef>
              <a:buClr>
                <a:srgbClr val="00389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 type="dt" idx="18"/>
          </p:nvPr>
        </p:nvSpPr>
        <p:spPr>
          <a:xfrm>
            <a:off x="456840" y="6453000"/>
            <a:ext cx="17384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15BB-581A-4C9D-9F73-B6E76F0BA36C}" type="datetime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26-07-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 type="ftr" idx="19"/>
          </p:nvPr>
        </p:nvSpPr>
        <p:spPr>
          <a:xfrm>
            <a:off x="3132000" y="6453000"/>
            <a:ext cx="288000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 type="sldNum" idx="20"/>
          </p:nvPr>
        </p:nvSpPr>
        <p:spPr>
          <a:xfrm>
            <a:off x="3924000" y="6453000"/>
            <a:ext cx="93492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000" spc="-1" strike="noStrike">
                <a:solidFill>
                  <a:srgbClr val="83725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8B081-6948-4745-A98E-E5584033215B}" type="slidenum">
              <a:rPr b="0" lang="en-ZA" sz="1000" spc="-1" strike="noStrike">
                <a:solidFill>
                  <a:srgbClr val="83725b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4.jpe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Rectangle 2"/>
          <p:cNvSpPr/>
          <p:nvPr/>
        </p:nvSpPr>
        <p:spPr>
          <a:xfrm>
            <a:off x="0" y="0"/>
            <a:ext cx="3059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50" name="Group 162"/>
          <p:cNvGrpSpPr/>
          <p:nvPr/>
        </p:nvGrpSpPr>
        <p:grpSpPr>
          <a:xfrm>
            <a:off x="-4680" y="0"/>
            <a:ext cx="9148680" cy="6858000"/>
            <a:chOff x="-4680" y="0"/>
            <a:chExt cx="9148680" cy="6858000"/>
          </a:xfrm>
        </p:grpSpPr>
        <p:pic>
          <p:nvPicPr>
            <p:cNvPr id="851" name="Picture 23" descr="dd"/>
            <p:cNvPicPr/>
            <p:nvPr/>
          </p:nvPicPr>
          <p:blipFill>
            <a:blip r:embed="rId1"/>
            <a:stretch/>
          </p:blipFill>
          <p:spPr>
            <a:xfrm>
              <a:off x="-4680" y="0"/>
              <a:ext cx="18255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2" name="Rectangle 91"/>
            <p:cNvSpPr/>
            <p:nvPr/>
          </p:nvSpPr>
          <p:spPr>
            <a:xfrm>
              <a:off x="-4680" y="0"/>
              <a:ext cx="914868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pic>
          <p:nvPicPr>
            <p:cNvPr id="853" name="Picture 161" descr="logo small"/>
            <p:cNvPicPr/>
            <p:nvPr/>
          </p:nvPicPr>
          <p:blipFill>
            <a:blip r:embed="rId2"/>
            <a:stretch/>
          </p:blipFill>
          <p:spPr>
            <a:xfrm>
              <a:off x="6489720" y="517680"/>
              <a:ext cx="2146320" cy="5443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54" name="Group 155"/>
          <p:cNvGrpSpPr/>
          <p:nvPr/>
        </p:nvGrpSpPr>
        <p:grpSpPr>
          <a:xfrm>
            <a:off x="257040" y="1201680"/>
            <a:ext cx="2482920" cy="2444760"/>
            <a:chOff x="257040" y="1201680"/>
            <a:chExt cx="2482920" cy="2444760"/>
          </a:xfrm>
        </p:grpSpPr>
        <p:sp>
          <p:nvSpPr>
            <p:cNvPr id="855" name="Oval 101"/>
            <p:cNvSpPr/>
            <p:nvPr/>
          </p:nvSpPr>
          <p:spPr>
            <a:xfrm>
              <a:off x="368280" y="1300320"/>
              <a:ext cx="2298600" cy="22968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6" name="Oval 103"/>
            <p:cNvSpPr/>
            <p:nvPr/>
          </p:nvSpPr>
          <p:spPr>
            <a:xfrm>
              <a:off x="344520" y="122544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7" name="Oval 104"/>
            <p:cNvSpPr/>
            <p:nvPr/>
          </p:nvSpPr>
          <p:spPr>
            <a:xfrm>
              <a:off x="257040" y="1225440"/>
              <a:ext cx="23608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8" name="Oval 105"/>
            <p:cNvSpPr/>
            <p:nvPr/>
          </p:nvSpPr>
          <p:spPr>
            <a:xfrm>
              <a:off x="380880" y="127476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59" name="Oval 106"/>
            <p:cNvSpPr/>
            <p:nvPr/>
          </p:nvSpPr>
          <p:spPr>
            <a:xfrm>
              <a:off x="307800" y="1201680"/>
              <a:ext cx="235908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0" name="Oval 102"/>
          <p:cNvGrpSpPr/>
          <p:nvPr/>
        </p:nvGrpSpPr>
        <p:grpSpPr>
          <a:xfrm>
            <a:off x="438120" y="1359000"/>
            <a:ext cx="2158920" cy="2176200"/>
            <a:chOff x="438120" y="1359000"/>
            <a:chExt cx="2158920" cy="2176200"/>
          </a:xfrm>
        </p:grpSpPr>
        <p:pic>
          <p:nvPicPr>
            <p:cNvPr id="861" name="Oval 102" descr=""/>
            <p:cNvPicPr/>
            <p:nvPr/>
          </p:nvPicPr>
          <p:blipFill>
            <a:blip r:embed="rId3"/>
            <a:stretch/>
          </p:blipFill>
          <p:spPr>
            <a:xfrm>
              <a:off x="438120" y="1359000"/>
              <a:ext cx="2158920" cy="21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2" name=""/>
            <p:cNvSpPr/>
            <p:nvPr/>
          </p:nvSpPr>
          <p:spPr>
            <a:xfrm>
              <a:off x="752400" y="1679400"/>
              <a:ext cx="1530360" cy="153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3" name="Group 156"/>
          <p:cNvGrpSpPr/>
          <p:nvPr/>
        </p:nvGrpSpPr>
        <p:grpSpPr>
          <a:xfrm>
            <a:off x="171360" y="1201680"/>
            <a:ext cx="2643120" cy="2494080"/>
            <a:chOff x="171360" y="1201680"/>
            <a:chExt cx="2643120" cy="2494080"/>
          </a:xfrm>
        </p:grpSpPr>
        <p:sp>
          <p:nvSpPr>
            <p:cNvPr id="864" name="Oval 107"/>
            <p:cNvSpPr/>
            <p:nvPr/>
          </p:nvSpPr>
          <p:spPr>
            <a:xfrm>
              <a:off x="44280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5" name="Oval 108"/>
            <p:cNvSpPr/>
            <p:nvPr/>
          </p:nvSpPr>
          <p:spPr>
            <a:xfrm>
              <a:off x="171360" y="1324080"/>
              <a:ext cx="2359080" cy="23716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6" name="Oval 109"/>
            <p:cNvSpPr/>
            <p:nvPr/>
          </p:nvSpPr>
          <p:spPr>
            <a:xfrm>
              <a:off x="455760" y="1201680"/>
              <a:ext cx="2358720" cy="235908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67" name="Group 146"/>
          <p:cNvGrpSpPr/>
          <p:nvPr/>
        </p:nvGrpSpPr>
        <p:grpSpPr>
          <a:xfrm>
            <a:off x="912960" y="620640"/>
            <a:ext cx="1284120" cy="1260720"/>
            <a:chOff x="912960" y="620640"/>
            <a:chExt cx="1284120" cy="1260720"/>
          </a:xfrm>
        </p:grpSpPr>
        <p:sp>
          <p:nvSpPr>
            <p:cNvPr id="868" name="Oval 147"/>
            <p:cNvSpPr/>
            <p:nvPr/>
          </p:nvSpPr>
          <p:spPr>
            <a:xfrm>
              <a:off x="974880" y="669960"/>
              <a:ext cx="1172880" cy="11858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69" name="Oval 148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c7f6d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0" name="Oval 149"/>
            <p:cNvSpPr/>
            <p:nvPr/>
          </p:nvSpPr>
          <p:spPr>
            <a:xfrm>
              <a:off x="949320" y="633240"/>
              <a:ext cx="122256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1" name="Oval 150"/>
            <p:cNvSpPr/>
            <p:nvPr/>
          </p:nvSpPr>
          <p:spPr>
            <a:xfrm>
              <a:off x="912960" y="633240"/>
              <a:ext cx="12096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2" name="Oval 151"/>
            <p:cNvSpPr/>
            <p:nvPr/>
          </p:nvSpPr>
          <p:spPr>
            <a:xfrm>
              <a:off x="974880" y="657360"/>
              <a:ext cx="1222200" cy="12240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3" name="Oval 152"/>
            <p:cNvSpPr/>
            <p:nvPr/>
          </p:nvSpPr>
          <p:spPr>
            <a:xfrm>
              <a:off x="936720" y="620640"/>
              <a:ext cx="121104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4" name="Oval 153"/>
            <p:cNvSpPr/>
            <p:nvPr/>
          </p:nvSpPr>
          <p:spPr>
            <a:xfrm>
              <a:off x="998640" y="706320"/>
              <a:ext cx="1123920" cy="112392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5" name="Oval 154"/>
            <p:cNvSpPr/>
            <p:nvPr/>
          </p:nvSpPr>
          <p:spPr>
            <a:xfrm>
              <a:off x="1011240" y="706320"/>
              <a:ext cx="1100160" cy="1100160"/>
            </a:xfrm>
            <a:prstGeom prst="ellipse">
              <a:avLst/>
            </a:prstGeom>
            <a:noFill/>
            <a:ln w="0">
              <a:solidFill>
                <a:srgbClr val="83725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76" name="Oval 118"/>
          <p:cNvSpPr/>
          <p:nvPr/>
        </p:nvSpPr>
        <p:spPr>
          <a:xfrm>
            <a:off x="1004760" y="706320"/>
            <a:ext cx="1111320" cy="111312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77" name="Group 145"/>
          <p:cNvGrpSpPr/>
          <p:nvPr/>
        </p:nvGrpSpPr>
        <p:grpSpPr>
          <a:xfrm>
            <a:off x="863640" y="620640"/>
            <a:ext cx="1369800" cy="1284480"/>
            <a:chOff x="863640" y="620640"/>
            <a:chExt cx="1369800" cy="1284480"/>
          </a:xfrm>
        </p:grpSpPr>
        <p:sp>
          <p:nvSpPr>
            <p:cNvPr id="878" name="Oval 119"/>
            <p:cNvSpPr/>
            <p:nvPr/>
          </p:nvSpPr>
          <p:spPr>
            <a:xfrm>
              <a:off x="1011240" y="620640"/>
              <a:ext cx="1222200" cy="12225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79" name="Oval 120"/>
            <p:cNvSpPr/>
            <p:nvPr/>
          </p:nvSpPr>
          <p:spPr>
            <a:xfrm>
              <a:off x="863640" y="695160"/>
              <a:ext cx="12222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0" name="Oval 121"/>
            <p:cNvSpPr/>
            <p:nvPr/>
          </p:nvSpPr>
          <p:spPr>
            <a:xfrm>
              <a:off x="1011240" y="695160"/>
              <a:ext cx="1211400" cy="1209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81" name="Group 157"/>
          <p:cNvGrpSpPr/>
          <p:nvPr/>
        </p:nvGrpSpPr>
        <p:grpSpPr>
          <a:xfrm>
            <a:off x="331920" y="3090960"/>
            <a:ext cx="2074680" cy="2038320"/>
            <a:chOff x="331920" y="3090960"/>
            <a:chExt cx="2074680" cy="2038320"/>
          </a:xfrm>
        </p:grpSpPr>
        <p:sp>
          <p:nvSpPr>
            <p:cNvPr id="882" name="Oval 122"/>
            <p:cNvSpPr/>
            <p:nvPr/>
          </p:nvSpPr>
          <p:spPr>
            <a:xfrm>
              <a:off x="419040" y="3178080"/>
              <a:ext cx="1925640" cy="191304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3" name="Oval 123"/>
            <p:cNvSpPr/>
            <p:nvPr/>
          </p:nvSpPr>
          <p:spPr>
            <a:xfrm>
              <a:off x="480960" y="3227400"/>
              <a:ext cx="1801800" cy="18144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4" name="Oval 124"/>
            <p:cNvSpPr/>
            <p:nvPr/>
          </p:nvSpPr>
          <p:spPr>
            <a:xfrm>
              <a:off x="393840" y="3116160"/>
              <a:ext cx="197640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5" name="Oval 125"/>
            <p:cNvSpPr/>
            <p:nvPr/>
          </p:nvSpPr>
          <p:spPr>
            <a:xfrm>
              <a:off x="331920" y="3116160"/>
              <a:ext cx="1963440" cy="19749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6" name="Oval 126"/>
            <p:cNvSpPr/>
            <p:nvPr/>
          </p:nvSpPr>
          <p:spPr>
            <a:xfrm>
              <a:off x="430200" y="315288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87" name="Oval 127"/>
            <p:cNvSpPr/>
            <p:nvPr/>
          </p:nvSpPr>
          <p:spPr>
            <a:xfrm>
              <a:off x="36828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888" name="Oval 128"/>
          <p:cNvSpPr/>
          <p:nvPr/>
        </p:nvSpPr>
        <p:spPr>
          <a:xfrm>
            <a:off x="482760" y="3227400"/>
            <a:ext cx="1801800" cy="181440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  <p:grpSp>
        <p:nvGrpSpPr>
          <p:cNvPr id="889" name="Group 158"/>
          <p:cNvGrpSpPr/>
          <p:nvPr/>
        </p:nvGrpSpPr>
        <p:grpSpPr>
          <a:xfrm>
            <a:off x="257040" y="3090960"/>
            <a:ext cx="2211480" cy="2087640"/>
            <a:chOff x="257040" y="3090960"/>
            <a:chExt cx="2211480" cy="2087640"/>
          </a:xfrm>
        </p:grpSpPr>
        <p:sp>
          <p:nvSpPr>
            <p:cNvPr id="890" name="Oval 129"/>
            <p:cNvSpPr/>
            <p:nvPr/>
          </p:nvSpPr>
          <p:spPr>
            <a:xfrm>
              <a:off x="257040" y="3201840"/>
              <a:ext cx="196560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1" name="Oval 130"/>
            <p:cNvSpPr/>
            <p:nvPr/>
          </p:nvSpPr>
          <p:spPr>
            <a:xfrm>
              <a:off x="492120" y="3090960"/>
              <a:ext cx="1976400" cy="19764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2" name="Oval 131"/>
            <p:cNvSpPr/>
            <p:nvPr/>
          </p:nvSpPr>
          <p:spPr>
            <a:xfrm>
              <a:off x="480960" y="3201840"/>
              <a:ext cx="1974960" cy="197676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893" name="Group 159"/>
          <p:cNvGrpSpPr/>
          <p:nvPr/>
        </p:nvGrpSpPr>
        <p:grpSpPr>
          <a:xfrm>
            <a:off x="900000" y="4684680"/>
            <a:ext cx="1717920" cy="1692360"/>
            <a:chOff x="900000" y="4684680"/>
            <a:chExt cx="1717920" cy="1692360"/>
          </a:xfrm>
        </p:grpSpPr>
        <p:sp>
          <p:nvSpPr>
            <p:cNvPr id="894" name="Oval 132"/>
            <p:cNvSpPr/>
            <p:nvPr/>
          </p:nvSpPr>
          <p:spPr>
            <a:xfrm>
              <a:off x="974880" y="4746600"/>
              <a:ext cx="1592280" cy="160488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5" name="Oval 133"/>
            <p:cNvSpPr/>
            <p:nvPr/>
          </p:nvSpPr>
          <p:spPr>
            <a:xfrm>
              <a:off x="1023840" y="4795920"/>
              <a:ext cx="1494000" cy="1506600"/>
            </a:xfrm>
            <a:prstGeom prst="ellipse">
              <a:avLst/>
            </a:prstGeom>
            <a:solidFill>
              <a:srgbClr val="83725b"/>
            </a:solidFill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6" name="Oval 134"/>
            <p:cNvSpPr/>
            <p:nvPr/>
          </p:nvSpPr>
          <p:spPr>
            <a:xfrm>
              <a:off x="949320" y="4697280"/>
              <a:ext cx="16430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7" name="Oval 135"/>
            <p:cNvSpPr/>
            <p:nvPr/>
          </p:nvSpPr>
          <p:spPr>
            <a:xfrm>
              <a:off x="900000" y="4697280"/>
              <a:ext cx="1630440" cy="164160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8" name="Oval 136"/>
            <p:cNvSpPr/>
            <p:nvPr/>
          </p:nvSpPr>
          <p:spPr>
            <a:xfrm>
              <a:off x="987480" y="473400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899" name="Oval 137"/>
            <p:cNvSpPr/>
            <p:nvPr/>
          </p:nvSpPr>
          <p:spPr>
            <a:xfrm>
              <a:off x="925560" y="4684680"/>
              <a:ext cx="164160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0" name="Oval 138"/>
          <p:cNvGrpSpPr/>
          <p:nvPr/>
        </p:nvGrpSpPr>
        <p:grpSpPr>
          <a:xfrm>
            <a:off x="1011240" y="4791240"/>
            <a:ext cx="1512720" cy="1517400"/>
            <a:chOff x="1011240" y="4791240"/>
            <a:chExt cx="1512720" cy="1517400"/>
          </a:xfrm>
        </p:grpSpPr>
        <p:pic>
          <p:nvPicPr>
            <p:cNvPr id="901" name="Oval 138" descr=""/>
            <p:cNvPicPr/>
            <p:nvPr/>
          </p:nvPicPr>
          <p:blipFill>
            <a:blip r:embed="rId6"/>
            <a:stretch/>
          </p:blipFill>
          <p:spPr>
            <a:xfrm>
              <a:off x="1011240" y="4791240"/>
              <a:ext cx="1512720" cy="151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2" name=""/>
            <p:cNvSpPr/>
            <p:nvPr/>
          </p:nvSpPr>
          <p:spPr>
            <a:xfrm>
              <a:off x="1235160" y="5013360"/>
              <a:ext cx="1065240" cy="107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grpSp>
        <p:nvGrpSpPr>
          <p:cNvPr id="903" name="Group 160"/>
          <p:cNvGrpSpPr/>
          <p:nvPr/>
        </p:nvGrpSpPr>
        <p:grpSpPr>
          <a:xfrm>
            <a:off x="838080" y="4684680"/>
            <a:ext cx="1828800" cy="1728720"/>
            <a:chOff x="838080" y="4684680"/>
            <a:chExt cx="1828800" cy="1728720"/>
          </a:xfrm>
        </p:grpSpPr>
        <p:sp>
          <p:nvSpPr>
            <p:cNvPr id="904" name="Oval 139"/>
            <p:cNvSpPr/>
            <p:nvPr/>
          </p:nvSpPr>
          <p:spPr>
            <a:xfrm>
              <a:off x="838080" y="4770360"/>
              <a:ext cx="16304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5" name="Oval 140"/>
            <p:cNvSpPr/>
            <p:nvPr/>
          </p:nvSpPr>
          <p:spPr>
            <a:xfrm>
              <a:off x="1023840" y="4770360"/>
              <a:ext cx="164304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  <p:sp>
          <p:nvSpPr>
            <p:cNvPr id="906" name="Oval 141"/>
            <p:cNvSpPr/>
            <p:nvPr/>
          </p:nvSpPr>
          <p:spPr>
            <a:xfrm>
              <a:off x="1036800" y="4684680"/>
              <a:ext cx="1630080" cy="1643040"/>
            </a:xfrm>
            <a:prstGeom prst="ellipse">
              <a:avLst/>
            </a:prstGeom>
            <a:noFill/>
            <a:ln w="9360">
              <a:solidFill>
                <a:srgbClr val="8372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896"/>
                </a:solidFill>
                <a:latin typeface="Arial"/>
              </a:endParaRPr>
            </a:p>
          </p:txBody>
        </p:sp>
      </p:grpSp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3058920" y="3271320"/>
            <a:ext cx="5545080" cy="67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Eskom CentralEast Supplier Development Localization and Industrialization (SDL&amp;I) (KZN &amp; FS) Pole Top Boxes Clarification Me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 type="subTitle"/>
          </p:nvPr>
        </p:nvSpPr>
        <p:spPr>
          <a:xfrm>
            <a:off x="3058920" y="4092120"/>
            <a:ext cx="5545080" cy="22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Presented by: Derna Edmund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3725b"/>
                </a:solidFill>
                <a:latin typeface="Arial"/>
              </a:rPr>
              <a:t>Date: 21 July 2022</a:t>
            </a:r>
            <a:endParaRPr b="0" lang="en-US" sz="18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Contrac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896"/>
                </a:solidFill>
                <a:latin typeface="Arial"/>
              </a:rPr>
              <a:t>Preferred Minimum Percentage   -  15%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uppliers are able to propose the subcontracting portion of the contract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This will be negotiated further prior to the award of the tender.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 </a:t>
            </a:r>
            <a:r>
              <a:rPr b="0" lang="en-US" sz="2000" spc="-1" strike="noStrike" u="sng">
                <a:solidFill>
                  <a:srgbClr val="003896"/>
                </a:solidFill>
                <a:uFillTx/>
                <a:latin typeface="Arial"/>
              </a:rPr>
              <a:t>Note</a:t>
            </a: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: This is not a pre-qualification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18B4-3FEC-4E39-B0DD-3AA788FE4EED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22E45-3DCC-4211-8D2E-4461084F3868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Contracting Continu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115000"/>
              </a:lnSpc>
              <a:spcBef>
                <a:spcPts val="2001"/>
              </a:spcBef>
              <a:spcAft>
                <a:spcPts val="6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Tender Returnables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if the above element is a requirement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001"/>
              </a:spcBef>
              <a:spcAft>
                <a:spcPts val="6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Proof of a sub-contract agreement/s must be submitted.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001"/>
              </a:spcBef>
              <a:spcAft>
                <a:spcPts val="6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Sub-contractor/s B-BBEE certificate / sworn affidavit must be submitted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.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001"/>
              </a:spcBef>
              <a:spcAft>
                <a:spcPts val="6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  <a:ea typeface="Times New Roman"/>
              </a:rPr>
              <a:t>Sub-contracting agreements can only be concluded with any of the following entities;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115000"/>
              </a:lnSpc>
              <a:spcBef>
                <a:spcPts val="2001"/>
              </a:spcBef>
              <a:spcAft>
                <a:spcPts val="601"/>
              </a:spcAft>
              <a:buClr>
                <a:srgbClr val="8c7f6d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93E4A-CEEE-49F1-9BDA-34DF71B1B511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34A7-FF52-4CFD-9260-43B3E0688F8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b Contracting co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2" name="Content Placeholder 2" descr=""/>
          <p:cNvPicPr/>
          <p:nvPr/>
        </p:nvPicPr>
        <p:blipFill>
          <a:blip r:embed="rId1"/>
          <a:stretch/>
        </p:blipFill>
        <p:spPr>
          <a:xfrm>
            <a:off x="384120" y="1414440"/>
            <a:ext cx="8540640" cy="5877000"/>
          </a:xfrm>
          <a:prstGeom prst="rect">
            <a:avLst/>
          </a:prstGeom>
          <a:ln w="0">
            <a:noFill/>
          </a:ln>
        </p:spPr>
      </p:pic>
      <p:sp>
        <p:nvSpPr>
          <p:cNvPr id="95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14994-60C7-4A89-8813-38C011EE103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0699-E589-40B1-8A5D-6795D0C10963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Checklist – This check list can be used for guidance on submission of docu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6A868-EB5A-4F8B-8493-5D5ADB08A7D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57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CDBBE-DB71-43D4-850B-37A622004A3C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58" name=""/>
          <p:cNvGraphicFramePr/>
          <p:nvPr/>
        </p:nvGraphicFramePr>
        <p:xfrm>
          <a:off x="457200" y="1557360"/>
          <a:ext cx="7499520" cy="5092560"/>
        </p:xfrm>
        <a:graphic>
          <a:graphicData uri="http://schemas.openxmlformats.org/drawingml/2006/table">
            <a:tbl>
              <a:tblPr/>
              <a:tblGrid>
                <a:gridCol w="514440"/>
                <a:gridCol w="5632200"/>
                <a:gridCol w="1352880"/>
              </a:tblGrid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Document to complete and/or to submit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Tick Box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4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worn Affidavit or</a:t>
                      </a:r>
                      <a:r>
                        <a:rPr b="1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Certified</a:t>
                      </a: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 BBBEE Certificate (Mandatory)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CIPC Registration Document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Identity Documents of owners of Company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hares Certificate where applicable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Jobs Created and Jobs Retained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kills Targets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7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igned Commitment Letter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8 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Latest Financial Statements corresponding to the financial date reflected on the sworn affidavit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ub-Contracting  percentage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0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Proof of sub-contracting agreement/s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11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Sub-contractor/s Certified B-BBEE certificate / sworn affidavit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ZA" sz="1900" spc="-1" strike="noStrike">
                          <a:solidFill>
                            <a:srgbClr val="003896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9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         </a:t>
            </a:r>
            <a:r>
              <a:rPr b="0" lang="en-US" sz="1600" spc="-1" strike="noStrike">
                <a:solidFill>
                  <a:srgbClr val="003896"/>
                </a:solidFill>
                <a:latin typeface="Arial"/>
              </a:rPr>
              <a:t>Thank You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DC6E3-871B-405C-B1B9-B74C5E26CF2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851-C916-48D4-9E1F-F29A44C75A00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DL&amp;I Requi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 txBox="1"/>
          <p:nvPr/>
        </p:nvSpPr>
        <p:spPr>
          <a:xfrm>
            <a:off x="436320" y="1125000"/>
            <a:ext cx="8528040" cy="535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  <a:ea typeface="Times New Roman"/>
              </a:rPr>
              <a:t>NO PREQUALIFICATION CRITERIA: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3896"/>
                </a:solidFill>
                <a:latin typeface="Arial"/>
                <a:ea typeface="Calibri"/>
              </a:rPr>
              <a:t>This enquiry is open to EME, QSE and LME Service Providers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REQUIREMENT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3896"/>
                </a:solidFill>
                <a:uFillTx/>
                <a:latin typeface="Arial"/>
              </a:rPr>
              <a:t>All Tenderers must submit proof of their BBBEE Status based on the turnover on their Financial Statements (this is to verify that you are submitting the correct sworn affidavit)</a:t>
            </a:r>
            <a:endParaRPr b="0" lang="en-US" sz="16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EME - Valid copy of  Sworn Affidavit or valid copy of BBBEE Certificate issued by CIPC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QSE - Valid copy of Sworn Affidavit/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LME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 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 lvl="1" marL="450720" indent="-271440">
              <a:lnSpc>
                <a:spcPct val="150000"/>
              </a:lnSpc>
              <a:spcBef>
                <a:spcPts val="1199"/>
              </a:spcBef>
              <a:spcAft>
                <a:spcPts val="1001"/>
              </a:spcAft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Joint Ventures - Valid </a:t>
            </a:r>
            <a:r>
              <a:rPr b="1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Certified</a:t>
            </a:r>
            <a:r>
              <a:rPr b="0" lang="en-US" sz="1400" spc="-1" strike="noStrike">
                <a:solidFill>
                  <a:srgbClr val="003896"/>
                </a:solidFill>
                <a:latin typeface="Arial"/>
                <a:ea typeface="Calibri"/>
              </a:rPr>
              <a:t> copy of BBBEE Certificate issued by a SANAS Accredited verification agency</a:t>
            </a:r>
            <a:r>
              <a:rPr b="0" lang="en-ZA" sz="1400" spc="-1" strike="noStrike">
                <a:solidFill>
                  <a:srgbClr val="003896"/>
                </a:solidFill>
                <a:latin typeface="Arial"/>
              </a:rPr>
              <a:t>  - the certificate must be in the name of the joint venture</a:t>
            </a:r>
            <a:endParaRPr b="0" lang="en-US" sz="1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8776-0E3C-4946-9863-E4747BE203C0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4514D-F808-4A2A-8CC6-BC6CFB7445A1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Key Elements of  B-BBEE Sworn Affidavi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436680" y="981000"/>
            <a:ext cx="837864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Tenderers submitting B-BBEE Sworn Affidavits must ensure that the affidavits meet the following key pointers to ensure their validity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a) Name/s of deponent as they appear in the identity document and the identity number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b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)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esignation of the deponent as the director, owner or member must be indicated in order to know that person is duly  authorized to depose of an affidavit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or circle </a:t>
            </a:r>
            <a:r>
              <a:rPr b="1" lang="en-ZA" sz="1200" spc="-1" strike="noStrike">
                <a:solidFill>
                  <a:srgbClr val="003896"/>
                </a:solidFill>
                <a:latin typeface="Arial"/>
              </a:rPr>
              <a:t>whichever is applicable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c) Name of enterprise as per enterprise registration documents issued by the CIPC, where applicable, and enterprise business address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) Percentage of black ownership, black female ownership and designated group. In the case of specialised enterprises as per Statement 004, the percentage of black beneficiaries must be reflected. (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No blank spaces to be left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e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ndicate total revenue for the year under review and whether it is based on audited financial statements or financial statements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Underline the applicable option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Financial year end as per the enterprise’s registration documents, which was used to determine the total revenue. (Financial year end to be stipulated b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day/month/year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g) B-BBEE Status level. An enterprise can only have one status level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h) Empowering supplier status must be indicated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i)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Date deponent signed and date of Commissioner of Oath must be the same.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(The sworn Affidavit must be signed in    the presence of the Commissioner of Oath).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j) Commissioner of Oath cannot be an employee or ex officio of the enterprise because, a person cannot by law, commission a sworn affidavit in which they have an interest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K) Sworn Affidavits attested / signed by a Commissioner of Oaths as a true copy </a:t>
            </a:r>
            <a:r>
              <a:rPr b="1" lang="en-US" sz="1200" spc="-1" strike="noStrike">
                <a:solidFill>
                  <a:srgbClr val="003896"/>
                </a:solidFill>
                <a:latin typeface="Arial"/>
              </a:rPr>
              <a:t>stamp </a:t>
            </a:r>
            <a:r>
              <a:rPr b="0" lang="en-US" sz="1200" spc="-1" strike="noStrike">
                <a:solidFill>
                  <a:srgbClr val="003896"/>
                </a:solidFill>
                <a:latin typeface="Arial"/>
              </a:rPr>
              <a:t>will not be accepted </a:t>
            </a:r>
            <a:endParaRPr b="0" lang="en-US" sz="12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5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B1F7C-8A7D-4B10-AF57-9A439C53A75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16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0E40B-5A25-4688-B142-1137AC84B73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 - page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8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636040" cy="5596200"/>
          </a:xfrm>
          <a:prstGeom prst="rect">
            <a:avLst/>
          </a:prstGeom>
          <a:ln w="0">
            <a:noFill/>
          </a:ln>
        </p:spPr>
      </p:pic>
      <p:sp>
        <p:nvSpPr>
          <p:cNvPr id="919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75D19-D744-43C7-A756-FF09F72E89D6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0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F8978-D7EC-4F0D-A600-53755883650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n How to Complete a Sworn Affidavit – page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2" name="Content Placeholder 6" descr=""/>
          <p:cNvPicPr/>
          <p:nvPr/>
        </p:nvPicPr>
        <p:blipFill>
          <a:blip r:embed="rId1"/>
          <a:stretch/>
        </p:blipFill>
        <p:spPr>
          <a:xfrm>
            <a:off x="328680" y="1125360"/>
            <a:ext cx="8486640" cy="5565960"/>
          </a:xfrm>
          <a:prstGeom prst="rect">
            <a:avLst/>
          </a:prstGeom>
          <a:ln w="0">
            <a:noFill/>
          </a:ln>
        </p:spPr>
      </p:pic>
      <p:sp>
        <p:nvSpPr>
          <p:cNvPr id="923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D9FD2-D232-4603-8B3A-96DC01ED8F8F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4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436ECA-CDF1-4ECC-B433-B9D9AF2EFEAE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BBEE Certificate for Exempted Micro Enterpri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6" name="Content Placeholder 5" descr=""/>
          <p:cNvPicPr/>
          <p:nvPr/>
        </p:nvPicPr>
        <p:blipFill>
          <a:blip r:embed="rId1"/>
          <a:stretch/>
        </p:blipFill>
        <p:spPr>
          <a:xfrm>
            <a:off x="2828880" y="1436760"/>
            <a:ext cx="3594240" cy="5045040"/>
          </a:xfrm>
          <a:prstGeom prst="rect">
            <a:avLst/>
          </a:prstGeom>
          <a:ln w="0">
            <a:noFill/>
          </a:ln>
        </p:spPr>
      </p:pic>
      <p:sp>
        <p:nvSpPr>
          <p:cNvPr id="927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5D2E0-E993-4B13-9943-CEEA1D70FA7B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28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25A9C-5DC2-4394-9145-BCBC8F1A62FA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ample of a BEE Certific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C9EA-B9C2-44BF-B25B-7702927AADA2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1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D2055-AF07-4157-9D22-466E6EAFBADB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pic>
        <p:nvPicPr>
          <p:cNvPr id="932" name="Content Placeholder 7" descr=""/>
          <p:cNvPicPr/>
          <p:nvPr/>
        </p:nvPicPr>
        <p:blipFill>
          <a:blip r:embed="rId1"/>
          <a:stretch/>
        </p:blipFill>
        <p:spPr>
          <a:xfrm>
            <a:off x="2676600" y="1436760"/>
            <a:ext cx="3898800" cy="5045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kills Targe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CEC1D-A1AD-4202-84A7-C159144764C5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5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AE5A9-B5B9-44DE-BF5E-93B1BE47A7D5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All Service Providers to propose targets against the Eskom targets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             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  <a:p>
            <a:pPr lvl="1" marL="450720">
              <a:lnSpc>
                <a:spcPct val="9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896"/>
                </a:solidFill>
                <a:latin typeface="Arial"/>
              </a:rPr>
              <a:t>Contractors Letter to Commitment to SDL&amp;I Requirements to be completed and signed  </a:t>
            </a:r>
            <a:endParaRPr b="0" lang="en-US" sz="24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37" name="Rectangle 6"/>
          <p:cNvSpPr/>
          <p:nvPr/>
        </p:nvSpPr>
        <p:spPr>
          <a:xfrm>
            <a:off x="900000" y="2962440"/>
            <a:ext cx="10161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896"/>
                </a:solidFill>
                <a:latin typeface="Arial"/>
                <a:ea typeface="Times New Roman"/>
              </a:rPr>
              <a:t>;</a:t>
            </a:r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graphicFrame>
        <p:nvGraphicFramePr>
          <p:cNvPr id="938" name=""/>
          <p:cNvGraphicFramePr/>
          <p:nvPr/>
        </p:nvGraphicFramePr>
        <p:xfrm>
          <a:off x="900000" y="2276640"/>
          <a:ext cx="7344000" cy="2808000"/>
        </p:xfrm>
        <a:graphic>
          <a:graphicData uri="http://schemas.openxmlformats.org/drawingml/2006/table">
            <a:tbl>
              <a:tblPr/>
              <a:tblGrid>
                <a:gridCol w="2448000"/>
                <a:gridCol w="2448000"/>
                <a:gridCol w="2448000"/>
              </a:tblGrid>
              <a:tr h="468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Category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skom Target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enderer Proposal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4 Electrical Engineering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5 Electrical Engineering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N6 Electrical Engineering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SAMTRAC Training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Total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3896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endParaRPr b="0" lang="en-US" sz="1600" spc="-1" strike="noStrike">
                        <a:solidFill>
                          <a:srgbClr val="003896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36680" y="166680"/>
            <a:ext cx="6519600" cy="66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ditional Requirements to be Submit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 txBox="1"/>
          <p:nvPr/>
        </p:nvSpPr>
        <p:spPr>
          <a:xfrm>
            <a:off x="436680" y="1436760"/>
            <a:ext cx="8378640" cy="504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CIPC Document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Shareholder’s Certificate/s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Identity Documents of Owners 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896"/>
                </a:solidFill>
                <a:latin typeface="Arial"/>
              </a:rPr>
              <a:t>Jobs Created and Retained</a:t>
            </a: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  <a:p>
            <a:pPr marL="266760" indent="-266760">
              <a:lnSpc>
                <a:spcPct val="90000"/>
              </a:lnSpc>
              <a:spcBef>
                <a:spcPts val="2500"/>
              </a:spcBef>
              <a:buClr>
                <a:srgbClr val="8c7f6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1" name="Date Placeholder 3"/>
          <p:cNvSpPr/>
          <p:nvPr/>
        </p:nvSpPr>
        <p:spPr>
          <a:xfrm>
            <a:off x="457200" y="6453360"/>
            <a:ext cx="173844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4E62-E429-4D2E-A57D-6578C26E8D79}" type="datetime">
              <a:rPr b="0" lang="en-ZA" sz="1000" spc="-1" strike="noStrike">
                <a:solidFill>
                  <a:srgbClr val="83725b"/>
                </a:solidFill>
                <a:latin typeface="Arial"/>
              </a:rPr>
              <a:t>26-07-28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  <p:sp>
        <p:nvSpPr>
          <p:cNvPr id="942" name="Slide Number Placeholder 4"/>
          <p:cNvSpPr/>
          <p:nvPr/>
        </p:nvSpPr>
        <p:spPr>
          <a:xfrm>
            <a:off x="7164360" y="6453360"/>
            <a:ext cx="1650960" cy="2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4A5AE-56C4-4D4B-A6CA-2244D16D4112}" type="slidenum">
              <a:rPr b="0" lang="en-ZA" sz="1000" spc="-1" strike="noStrike">
                <a:solidFill>
                  <a:srgbClr val="83725b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3896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2T18:15:51Z</dcterms:created>
  <dc:creator>TCH bonisa</dc:creator>
  <dc:description/>
  <dc:language>en-US</dc:language>
  <cp:lastModifiedBy>Thabile Sibiya</cp:lastModifiedBy>
  <cp:lastPrinted>2018-11-13T06:26:01Z</cp:lastPrinted>
  <dcterms:modified xsi:type="dcterms:W3CDTF">2022-07-21T11:22:16Z</dcterms:modified>
  <cp:revision>84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IP_Label_dd17a35c-9c67-4dda-b948-74ee3b80cf57_Application">
    <vt:lpwstr>Microsoft Azure Information Protection</vt:lpwstr>
  </property>
  <property fmtid="{D5CDD505-2E9C-101B-9397-08002B2CF9AE}" pid="3" name="MSIP_Label_dd17a35c-9c67-4dda-b948-74ee3b80cf57_Enabled">
    <vt:lpwstr>True</vt:lpwstr>
  </property>
  <property fmtid="{D5CDD505-2E9C-101B-9397-08002B2CF9AE}" pid="4" name="MSIP_Label_dd17a35c-9c67-4dda-b948-74ee3b80cf57_Extended_MSFT_Method">
    <vt:lpwstr>Manual</vt:lpwstr>
  </property>
  <property fmtid="{D5CDD505-2E9C-101B-9397-08002B2CF9AE}" pid="5" name="MSIP_Label_dd17a35c-9c67-4dda-b948-74ee3b80cf57_Name">
    <vt:lpwstr>Public</vt:lpwstr>
  </property>
  <property fmtid="{D5CDD505-2E9C-101B-9397-08002B2CF9AE}" pid="6" name="MSIP_Label_dd17a35c-9c67-4dda-b948-74ee3b80cf57_Ref">
    <vt:lpwstr>https://api.informationprotection.azure.com/api/93aedbdc-cc67-4652-aa12-d250a876ae79</vt:lpwstr>
  </property>
  <property fmtid="{D5CDD505-2E9C-101B-9397-08002B2CF9AE}" pid="7" name="MSIP_Label_dd17a35c-9c67-4dda-b948-74ee3b80cf57_SetBy">
    <vt:lpwstr>EdmundDH@eskom.co.za</vt:lpwstr>
  </property>
  <property fmtid="{D5CDD505-2E9C-101B-9397-08002B2CF9AE}" pid="8" name="MSIP_Label_dd17a35c-9c67-4dda-b948-74ee3b80cf57_SetDate">
    <vt:lpwstr>2020-11-26T14:18:48.2663455+02:00</vt:lpwstr>
  </property>
  <property fmtid="{D5CDD505-2E9C-101B-9397-08002B2CF9AE}" pid="9" name="MSIP_Label_dd17a35c-9c67-4dda-b948-74ee3b80cf57_SiteId">
    <vt:lpwstr>93aedbdc-cc67-4652-aa12-d250a876ae79</vt:lpwstr>
  </property>
  <property fmtid="{D5CDD505-2E9C-101B-9397-08002B2CF9AE}" pid="10" name="Sensitivity">
    <vt:lpwstr>Public</vt:lpwstr>
  </property>
</Properties>
</file>